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755C-3EB7-4EF4-85FB-11A2D8FC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7387-B656-4DCB-82A5-B11B7260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74FB-D9D3-42AF-8456-278CAFA6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00C4-E0D8-4A09-8364-486A78E4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6A56-5FD8-4041-9FB2-43907DD0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DAA6-5861-478E-993E-AB1C243A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77C1-CA85-4498-8A91-332B6177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3264-488F-4ECE-A194-23F6BC8C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D479-3AC8-4144-9205-E38F7AA2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2BDA-8FE9-41BB-8D47-CEDF0826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85BA-537E-4B85-B187-9F7BFF9A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611E-ECC5-47B3-85B7-6EB2A0E2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5017-E0CC-4CA5-9ED1-A7C39F6B6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382160" cy="819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3008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námky: 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  obrázek s logy je třeba umístit do záhlaví každého slidu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  do prezentace není možno umístit loga jiných subjek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2:09:00Z</dcterms:created>
  <dc:creator>pekarj</dc:creator>
  <dc:description/>
  <dc:language>en-US</dc:language>
  <cp:lastModifiedBy>pekarj</cp:lastModifiedBy>
  <dcterms:modified xsi:type="dcterms:W3CDTF">2009-08-14T05:40:16Z</dcterms:modified>
  <cp:revision>2</cp:revision>
  <dc:subject/>
  <dc:title>Poznámka: obrázek s logy je třeba umístit do záhlaví každého slidu</dc:title>
</cp:coreProperties>
</file>